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61A-152B-4D7E-AD42-2B22E02B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279-B425-458A-8BD6-6B58881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312-2E3D-49A8-BB2F-A92C56B2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692-2666-4F2F-845F-C48A2BF6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52F-9BE7-4B5F-8D12-749D949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BB4-5655-4081-8A08-F7F5A37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09B-1154-4A44-A8F5-B557179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817-ED24-4CE9-A8E5-1F56005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298-A00B-4834-AB4F-CBC0857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283-6FDE-4F58-B741-DD2FD45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F3D-F3E1-40B5-9E3B-38EB906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E46-9AF2-4CF9-A992-8848A84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E5BB-8A26-40F3-9C8A-CB92D5C010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FFA-8C25-4764-B133-6A6B1D81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201600"/>
            <a:ext cx="59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.N.A.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cultad de Contaduría y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360" y="2249640"/>
            <a:ext cx="6788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ción del  Iceberg de la Ignoranc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piendo Paradigm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owerment “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endiendo a que los empleados dirij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vuelo del bufa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4240" y="56530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o : Jaime G.Sanchez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292-AC38-4BC4-9613-C9406A17B3F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D762C-DCF9-4D11-91BA-49FC7D544BC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6200" y="318960"/>
            <a:ext cx="41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 es un Iceberg............¡...............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E77-798D-41BD-9444-583AFD2A30A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B2662-E68F-4E78-8F62-C0ABE7D049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395360"/>
            <a:ext cx="5676840" cy="485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763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EL ICEBERG DE LA IGNORANCIA.!En  la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oma de decisiones ¡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! El Potencial del conocimiento de un Problema Operativo... ¡ ¿Hoy quien toma las decisiones  al presentarse un problema 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2160" y="18892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Alta Ger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25750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rencia medi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360" y="33526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vel Supervi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160" y="425124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vel Oper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1600" y="19051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5909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0120" y="33368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7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832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360" y="42512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A7F-BDC4-4E07-95A5-A3DC536D79B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2A34A-ED8D-4FE4-B48E-2AE30423EA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0400" y="1219320"/>
            <a:ext cx="7421760" cy="370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3520" y="304920"/>
            <a:ext cx="6278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Entender las Expectativa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880" y="5211720"/>
            <a:ext cx="76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¡Uno solo no puede con toda la carg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4E3-2583-4F54-A642-B1B04C71E5F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14C1C-BEE2-4344-9294-3DD2AE32D1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2286000"/>
            <a:ext cx="66294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cia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su atención y confia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0148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jsanchez43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5F-D700-4629-8BD0-F56DD05AABA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562A4-AD89-4F9E-BA9D-7C92FDC64A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21:00:01Z</dcterms:created>
  <dc:creator>Sanchez Carrillo Jaime</dc:creator>
  <dc:description/>
  <dc:language>en-US</dc:language>
  <cp:lastModifiedBy> Jaime G.Sanchez C.</cp:lastModifiedBy>
  <dcterms:modified xsi:type="dcterms:W3CDTF">2006-02-22T21:14:20Z</dcterms:modified>
  <cp:revision>15</cp:revision>
  <dc:subject/>
  <dc:title>Presentación de PowerPoint</dc:title>
</cp:coreProperties>
</file>